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8.png" ContentType="image/png"/>
  <Override PartName="/ppt/media/image27.wmf" ContentType="image/x-wmf"/>
  <Override PartName="/ppt/media/image16.jpeg" ContentType="image/jpeg"/>
  <Override PartName="/ppt/media/image21.jpeg" ContentType="image/jpeg"/>
  <Override PartName="/ppt/media/camera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BAB-C808-4415-9272-802CFD97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DDB-A062-4BE5-8E6D-62855158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E7B-4EAB-4E7C-99E7-F66EC435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06B-CC0D-4596-8203-DD0733D0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315-8D82-496E-9B74-DAD963B3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BCF-3495-4079-9D92-30CDE1AA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BE8-DA60-41DF-95F8-6C188078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BDE-31FC-4CBE-A498-573AE18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25E-7860-4D64-8334-887D365C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7D8-9858-4D8C-90F3-21F590D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8F2-2EE6-4536-8E19-97EC776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EAE-64F0-4966-BE03-84A8D068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F6C1-4EEE-4E08-B9BF-DF71F54DA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gif"/><Relationship Id="rId11" Type="http://schemas.openxmlformats.org/officeDocument/2006/relationships/hyperlink" Target="http://www.pbase.com/digitales/spanje" TargetMode="External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8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8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j0388386.wav" TargetMode="External"/><Relationship Id="rId3" Type="http://schemas.microsoft.com/office/2007/relationships/media" Target="file:///tmp/home/.config/libreoffice/4/user/gallery/j0388386.wav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8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1800000" cy="125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salchichas al vino"/>
          <p:cNvPicPr/>
          <p:nvPr/>
        </p:nvPicPr>
        <p:blipFill>
          <a:blip r:embed="rId3"/>
          <a:stretch/>
        </p:blipFill>
        <p:spPr>
          <a:xfrm>
            <a:off x="2627280" y="3789360"/>
            <a:ext cx="1716120" cy="137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08908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944720" cy="167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158920" cy="131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68360" y="1989000"/>
            <a:ext cx="1655640" cy="183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763640" cy="164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859280" y="33336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Jamon Serano,  Pata Negr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484360" y="6206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24000" y="476280"/>
            <a:ext cx="1942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162760" cy="4519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14600" y="3808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la mantequil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3706920" cy="518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8288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la mi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95280" y="4572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zumo de naran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Orange Juice ©Jane Phillpot - Xara Xone Featured Artist"/>
          <p:cNvPicPr/>
          <p:nvPr/>
        </p:nvPicPr>
        <p:blipFill>
          <a:blip r:embed="rId1"/>
          <a:stretch/>
        </p:blipFill>
        <p:spPr>
          <a:xfrm>
            <a:off x="2556000" y="1773360"/>
            <a:ext cx="4344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4091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35280" y="457200"/>
            <a:ext cx="46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los cere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410440" cy="35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27280" y="620640"/>
            <a:ext cx="453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el café (sol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4552920" cy="492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52480" y="3049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café con le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191120" y="533520"/>
            <a:ext cx="3822480" cy="6083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25146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t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502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62320" y="3049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El chocol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427560" cy="4516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3000" y="19051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agu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016000" cy="120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11280" y="333360"/>
            <a:ext cx="237672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932360" y="404640"/>
            <a:ext cx="2090880" cy="145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095960" y="40464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50920" y="2492280"/>
            <a:ext cx="1857240" cy="1625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556000" y="2133720"/>
            <a:ext cx="1554120" cy="217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Orange Juice ©Jane Phillpot - Xara Xone Featured Artist"/>
          <p:cNvPicPr/>
          <p:nvPr/>
        </p:nvPicPr>
        <p:blipFill>
          <a:blip r:embed="rId7"/>
          <a:stretch/>
        </p:blipFill>
        <p:spPr>
          <a:xfrm>
            <a:off x="4356000" y="2349360"/>
            <a:ext cx="2016360" cy="192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516720" y="2708280"/>
            <a:ext cx="2400120" cy="1590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0" y="4797360"/>
            <a:ext cx="1908000" cy="155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2050920" y="4724280"/>
            <a:ext cx="1455840" cy="157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3708360" y="4437000"/>
            <a:ext cx="1370160" cy="217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5292720" y="4653000"/>
            <a:ext cx="1657440" cy="160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7164360" y="4581360"/>
            <a:ext cx="14288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vise basic fo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vise how to use the verb gu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13 items you might have for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learn how to say what you eat for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learn basic ways of using neg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say what you eat for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24000" y="476280"/>
            <a:ext cx="3822840" cy="6083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08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1"/>
                </p:tgtEl>
              </p:cMediaNode>
            </p:audio>
            <p:seq>
              <p:cTn id="28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08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40000" y="-458640"/>
            <a:ext cx="3987720" cy="2392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084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084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722680" cy="2382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084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084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5715000" cy="3965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7" dur="108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8"/>
                </p:tgtEl>
              </p:cMediaNode>
            </p:audio>
            <p:seq>
              <p:cTn id="64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2" dur="108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Orange Juice ©Jane Phillpot - Xara Xone Featured Artist"/>
          <p:cNvPicPr/>
          <p:nvPr/>
        </p:nvPicPr>
        <p:blipFill>
          <a:blip r:embed="rId1"/>
          <a:stretch/>
        </p:blipFill>
        <p:spPr>
          <a:xfrm>
            <a:off x="4356000" y="2205000"/>
            <a:ext cx="4345200" cy="4149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72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7" dur="108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69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2" dur="108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349360"/>
            <a:ext cx="504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unca desay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o me gusta desayu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83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¿Qué comes para el desayu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(What do you eat for breakf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34136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ormalmente desayun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I normally eat… for breakf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2349360"/>
            <a:ext cx="403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I never eat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I don’t like having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58920" y="1844640"/>
            <a:ext cx="7056360" cy="33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T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Copia el vocabul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Escribe una descripción de lo que comes para el desay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ractica con una pareja como pronunci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2349360"/>
            <a:ext cx="504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unca desay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o me gusta desayu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83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¿Qué comes para el desayu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(What do you eat for breakf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34136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ormalmente desayun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I normally eat… for breakf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2349360"/>
            <a:ext cx="403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I never eat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I don’t like having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718080"/>
            <a:ext cx="8964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bacón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bacon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café con leche – white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té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tea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zumo de naranja – orange ju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huevo cocido – boiled egg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agua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huevo frito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fried egg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la tostada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to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chocolate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hot chocolate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con mantequilla – with bu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café solo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black coffee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con miel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with h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los cereales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cer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desayu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016000" cy="1209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411280" y="333360"/>
            <a:ext cx="2376720" cy="1447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932360" y="404640"/>
            <a:ext cx="2090880" cy="1451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7095960" y="40464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250920" y="2492280"/>
            <a:ext cx="1857240" cy="1625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2556000" y="2133720"/>
            <a:ext cx="1554120" cy="2174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Orange Juice ©Jane Phillpot - Xara Xone Featured Artist"/>
          <p:cNvPicPr/>
          <p:nvPr/>
        </p:nvPicPr>
        <p:blipFill>
          <a:blip r:embed="rId7"/>
          <a:stretch/>
        </p:blipFill>
        <p:spPr>
          <a:xfrm>
            <a:off x="4356000" y="2349360"/>
            <a:ext cx="2016360" cy="1925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6516720" y="2708280"/>
            <a:ext cx="2400120" cy="1590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0" y="4797360"/>
            <a:ext cx="1908000" cy="1559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2050920" y="4724280"/>
            <a:ext cx="1455840" cy="1575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3708360" y="4437000"/>
            <a:ext cx="1370160" cy="2179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2"/>
          <a:stretch/>
        </p:blipFill>
        <p:spPr>
          <a:xfrm>
            <a:off x="5292720" y="4653000"/>
            <a:ext cx="1657440" cy="1608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3"/>
          <a:stretch/>
        </p:blipFill>
        <p:spPr>
          <a:xfrm>
            <a:off x="7164360" y="4581360"/>
            <a:ext cx="14288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64072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ustar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i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 / ella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sotros / 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osotros / 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los / ell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e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76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765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34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93080" y="1341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84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184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im /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242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4210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ol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292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29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35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40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4005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l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458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458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51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4360" y="5157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l. po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95008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s used when refering to                     plural objects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5950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ingular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desayu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24000" y="2060640"/>
            <a:ext cx="496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El desayu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breakfa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391000" cy="3235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38280" y="30492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la tos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14600" y="45720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bac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9673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715000" cy="3965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6232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huevo fr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30492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huevo cocido / d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2:51:28Z</dcterms:created>
  <dc:creator>teacher</dc:creator>
  <dc:description/>
  <dc:language>en-US</dc:language>
  <cp:lastModifiedBy>Owner1</cp:lastModifiedBy>
  <dcterms:modified xsi:type="dcterms:W3CDTF">2008-10-22T10:38:45Z</dcterms:modified>
  <cp:revision>5</cp:revision>
  <dc:subject/>
  <dc:title>PowerPoint Presentation</dc:title>
</cp:coreProperties>
</file>